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27329-8528-45C6-A613-1F87584E5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9A51-B907-4DAA-AE26-A0F2DEF0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7CE35-0F39-4619-B5B8-F53129F7B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BDB61-AFB3-4010-9C60-F0732CFC1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34CE1-8A52-4B4B-B982-E36287D13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63CA7-1536-46FD-8BA8-6BC1D2092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A902A-250A-42FB-A84D-4DEB26E6D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7B115-00CA-406E-8C37-470571901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7853D-BBB5-4C20-813C-CA3409243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D8D3-5A9F-4BBE-B81A-F10B2AB5A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2CA28-09E2-42A8-A94D-22C9B439C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CBAE1-AD5F-4B0C-A38C-7B16543E6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4C6A2-CC29-4F06-8B9E-35E6AE18D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BF84E-014F-4E07-9861-5678B04F2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CE5F0-FF41-481F-AB59-AFB713935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000FA-2215-42C0-9DEF-02727CADB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2B5BB-21DD-4034-ABDB-19D50F81A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035D4-8B80-4596-AF21-31296E1888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6C493-7599-40AC-AE51-0CF350123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6C0D3-925F-48F9-BC85-A1608043E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C188A-88B6-4FD0-A0AE-BA0882186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7A1A2-D05D-4961-813E-67FE73F99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3569-17F6-48EF-AE8E-44629757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861923-353A-4293-B0D8-DEE91A526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82E1C-7DFC-4856-8B72-FC7EF768D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F44C0-0B5D-4D18-81D7-F43B46A00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751526-18B8-4BBC-94F7-A43AFEDBF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E9F15-FDA7-4A56-8A6E-E5F17D7C1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C45368-F419-47A4-994A-953A8EFE85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9E0075-F42A-4502-B8D2-97830E605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708128-15A6-404F-AF7B-D350A777E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4FFCD-FAC8-4C5C-9BC8-E0D4BE522D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EACA7-5E63-4B32-B7C4-38D8736C4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EADC-060D-4D50-8D8F-2C71EDCA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CFBD2-BF15-40CB-AA07-789CDF899E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B9689-8B84-417F-A4E8-6BF7C3934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85473-0E45-4677-9EBB-D1A82950F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073C5-5C50-49BA-89F5-A9FC21BC6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0FBF9-C768-4653-B7E9-BBBD0F473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0B95C-ED63-4E85-B7BE-B4273EA04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507DE-09EA-47A0-9A90-2F9998A6D9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A2C357-950C-4AF7-990E-E217BFFBE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237DCD-328B-4ECA-9F6C-C1F0A2FF5A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004C-6146-4893-A772-EE811CDFF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1944-6FB3-4881-A557-6D33F115E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F6A4-4DBC-472A-AF74-6BBDBACD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E5925-C55D-4C11-8454-B3357542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5C60-64CC-44FC-9B84-16A348883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C20A-3DB6-4D1D-B6E7-0B6BE7453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1EA7-B1AD-487A-87F2-525C3DC10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36440" y="136440"/>
            <a:ext cx="8866440" cy="658188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7157-175C-4D2F-BED3-E0CEE1F88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
          <p:cNvSpPr/>
          <p:nvPr/>
        </p:nvSpPr>
        <p:spPr>
          <a:xfrm>
            <a:off x="136440" y="136440"/>
            <a:ext cx="8866440" cy="6581880"/>
          </a:xfrm>
          <a:prstGeom prst="rect">
            <a:avLst/>
          </a:prstGeom>
          <a:solidFill>
            <a:srgbClr val="99ff6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CC9C-E3AB-4262-B9CE-4852FC4CD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mio.dymo.com/" TargetMode="External"/><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ds.yahoo.com/_ylt=A0PDoX.BwqhMaEgAWIKJzbkF;_ylu=X3oDMTBpc2ozM2gzBHBvcwM0BHNlYwNzcgR2dGlkAw--/SIG=1h8cbf4i3/EXP=1286214657/**http%3A//images.search.yahoo.com/images/view%3Fback=http%253A%252F%252Fimages.search.yahoo.com%252Fsearch%252Fimages%253Fp%253Dmimio%252Bwith%252Bstudents%2526ei%253Dutf-8%2526fr%253Dslv8-hpd03%26w=1095%26h=415%26imgurl=www.setda.org%252Fimage%252Fimage_gallery%253Fimg_id%253D707%26rurl=http%253A%252F%252Fwww.setda.org%252Fweb%252Fguest%252F2009eventsponsors%26size=105KB%26name=Mimio%2Blogo%26p=mimio%2Bwith%2Bstudents%26oid=5817c8dc2f42b7ec43dfa40f73ecb4a0%26fr2=%26no=4%26tt=387%26sigr=11gohe996%26sigi=11cd06l48%26sigb=12pivpr2i"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eCyqhMnSEAYT6JzbkF;_ylu=X3oDMTBqODFpbHJpBHBvcwMzMQRzZWMDc3IEdnRpZAM-/SIG=1koirjkv3/EXP=1286216706/**http%3A/images.search.yahoo.com/images/view%3Fback=http%253A%252F%252Fimages.search.yahoo.com%252Fsearch%252Fimages%253Fp%253DTEACHING%252BWITH%252BMIMIO%2526b%253D19%2526ni%253D18%2526ei%253DUTF-8%2526xargs%253D0%2526pstart%253D1%2526fr%253Dslv8-hpd03%2526fr2%253Dtab-web%26w=301%26h=278%26imgurl=www.rockypointschools.org%252Feboard%252Fimages%252Fmimio.jpg%26rurl=http%253A%252F%252Fwww.rockypointschools.org%252Feboard%252Fmimio.htm%26size=18KB%26name=...%2Binstall%2Bthe%2B...%26p=TEACHING%2BWITH%2BMIMIO%26oid=d13a50580e5db72737266d3e55bc28b9%26fr2=tab-web%26no=31%26tt=349%26b=19%26ni=18%26sigr=11hkkpcl6%26sigi=11hlft9uq%26sigb=1418j5qc1" TargetMode="External"/><Relationship Id="rId3" Type="http://schemas.openxmlformats.org/officeDocument/2006/relationships/image" Target="../media/image4.jpeg"/><Relationship Id="rId4" Type="http://schemas.openxmlformats.org/officeDocument/2006/relationships/hyperlink" Target="http://rds.yahoo.com/_ylt=A0WTefNfy6hMansAgi2JzbkF;_ylu=X3oDMTBqZjdtb25uBHBvcwMyNgRzZWMDc3IEdnRpZAM-/SIG=1joqfdudp/EXP=1286216927/**http%3A/images.search.yahoo.com/images/view%3Fback=http%253A%252F%252Fimages.search.yahoo.com%252Fsearch%252Fimages%253Fp%253DTEACHING%252BWITH%252BMIMIO%2526b%253D19%2526ni%253D18%2526ei%253Dutf-8%2526xargs%253D0%2526pstart%253D1%2526fr%253Dslv8-hpd03%26w=640%26h=430%26imgurl=www.lee-scott.org%252Fleaders%252Fsyork%252Fpicts%252F0112.JPG%26rurl=http%253A%252F%252Fwww.lee-scott.org%252Fleaders%252Fsyork%252F%26size=45KB%26name=...%2BAcademy%2B-%2BTe...%26p=TEACHING%2BWITH%2BMIMIO%26oid=017d7539fbcf04f384dbcb5dc68e935a%26fr2=%26no=26%26tt=349%26b=19%26ni=18%26sigr=1174d5ug1%26sigi=11ejcpc4c%26sigb=13l87t58q"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mio.dymo.com/" TargetMode="External"/><Relationship Id="rId3" Type="http://schemas.openxmlformats.org/officeDocument/2006/relationships/hyperlink" Target="http://rds.yahoo.com/_ylt=A0WTeffuyqhMEC8ApGaJzbkF;_ylu=X3oDMTBqYWQycXZrBHBvcwM0NARzZWMDc3IEdnRpZAM-/SIG=1k44ff8fi/EXP=1286216814/**http%3A/images.search.yahoo.com/images/view%3Fback=http%253A%252F%252Fimages.search.yahoo.com%252Fsearch%252Fimages%253Fp%253DMIMIO%2526b%253D37%2526ni%253D18%2526ei%253Dutf-8%2526xargs%253D0%2526pstart%253D1%2526fr%253Dslv8-hpd03%26w=334%26h=390%26imgurl=www.easygraphics.com%252Fimages%252Fuploads%252Fmimio%252FmimionInteractivewithStylus_howitworks.jpg%26rurl=http%253A%252F%252Fwww.easygraphics.com%252Fmimio-interactive%252Fprod_140.html%26size=15KB%26name=mimio%2BInteractiv...%26p=MIMIO%26oid=5a88ae0795430ccf729f0d87c7de5824%26fr2=%26no=44%26tt=18300%26b=37%26ni=18%26sigr=11ro2rovo%26sigi=12kk1hp8p%26sigb=13782ijmc" TargetMode="External"/><Relationship Id="rId4" Type="http://schemas.openxmlformats.org/officeDocument/2006/relationships/image" Target="../media/image6.jpeg"/><Relationship Id="rId5"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fuyqhMEC8Aq2aJzbkF;_ylu=X3oDMTBqaXE0am1iBHBvcwM1MQRzZWMDc3IEdnRpZAM-/SIG=1m7s5j0sa/EXP=1286216814/**http%3A/images.search.yahoo.com/images/view%3Fback=http%253A%252F%252Fimages.search.yahoo.com%252Fsearch%252Fimages%253Fp%253DMIMIO%2526b%253D37%2526ni%253D18%2526ei%253Dutf-8%2526xargs%253D0%2526pstart%253D1%2526fr%253Dslv8-hpd03%26w=400%26h=400%26imgurl=common1.csnimages.com%252Flf%252F1%252Fhash%252F260%252F1866524%252F1%252FInteractive%252BBar%252Band%252BCapture%252BKit%252Bwith%252BStudio%252BProfessional%252BSoftware.jpg%26rurl=http%253A%252F%252Fwww.studentmarket.com%252FMimio-600-0050-MI1045.html%26size=21KB%26name=Mimio%2BInteractiv...%26p=MIMIO%26oid=69c3c4ccdb53d7107bcb1ac4a426ae9b%26fr2=%26no=51%26tt=18300%26b=37%26ni=18%26sigr=11nsed2v5%26sigi=13je9lfo9%26sigb=13782ijmc" TargetMode="External"/><Relationship Id="rId3" Type="http://schemas.openxmlformats.org/officeDocument/2006/relationships/image" Target="../media/image7.jpeg"/><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6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zano, R. J. (2009). Teaching with Interactive Whiteboards. Multiple Measures, 67, 80-82</a:t>
            </a:r>
            <a:br>
              <a:rPr sz="2400"/>
            </a:br>
            <a:br>
              <a:rPr sz="2400"/>
            </a:br>
            <a:r>
              <a:rPr b="0" lang="en-US" sz="2400" spc="-1" strike="noStrike">
                <a:solidFill>
                  <a:srgbClr val="000000"/>
                </a:solidFill>
                <a:latin typeface="Arial"/>
              </a:rPr>
              <a:t>Marzano, R. J., &amp; Haystead, M. (2009). Final report on the evaluation of the Promethean technology. Englewood, CO: Marzano Research Laborat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io. (2010). Simply teaching. As retrieved from </a:t>
            </a:r>
            <a:r>
              <a:rPr b="0" lang="en-US" sz="2400" spc="-1" strike="noStrike" u="sng">
                <a:solidFill>
                  <a:srgbClr val="144466"/>
                </a:solidFill>
                <a:uFillTx/>
                <a:latin typeface="Arial"/>
                <a:hlinkClick r:id="rId2"/>
              </a:rPr>
              <a:t>http://www.mimio.dymo.com/</a:t>
            </a: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380880"/>
            <a:ext cx="64008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and Integration of Technology in Education</a:t>
            </a:r>
            <a:endParaRPr b="0" lang="en-US" sz="3200" spc="-1" strike="noStrike">
              <a:solidFill>
                <a:srgbClr val="000000"/>
              </a:solidFill>
              <a:latin typeface="Arial"/>
            </a:endParaRPr>
          </a:p>
        </p:txBody>
      </p:sp>
      <p:sp>
        <p:nvSpPr>
          <p:cNvPr id="169" name="PlaceHolder 2"/>
          <p:cNvSpPr>
            <a:spLocks noGrp="1"/>
          </p:cNvSpPr>
          <p:nvPr>
            <p:ph type="subTitle"/>
          </p:nvPr>
        </p:nvSpPr>
        <p:spPr>
          <a:xfrm>
            <a:off x="3276360" y="1828440"/>
            <a:ext cx="4724280" cy="30481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oryboard for Multimedia Presentation</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uren Dart</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alden University</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 Watson</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 partial fulfillment of the requirements for EDUC-710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ctober 2, 2010</a:t>
            </a:r>
            <a:endParaRPr b="0" lang="en-US" sz="1400" spc="-1" strike="noStrike">
              <a:solidFill>
                <a:srgbClr val="000000"/>
              </a:solidFill>
              <a:latin typeface="Arial"/>
            </a:endParaRPr>
          </a:p>
        </p:txBody>
      </p:sp>
      <p:pic>
        <p:nvPicPr>
          <p:cNvPr id="170" name="" descr="Go to fullsize image">
            <a:hlinkClick r:id="rId2"/>
          </p:cNvPr>
          <p:cNvPicPr/>
          <p:nvPr/>
        </p:nvPicPr>
        <p:blipFill>
          <a:blip r:embed="rId3"/>
          <a:stretch/>
        </p:blipFill>
        <p:spPr>
          <a:xfrm>
            <a:off x="4952880" y="2362320"/>
            <a:ext cx="1524240" cy="57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eed</a:t>
            </a:r>
            <a:r>
              <a:rPr b="0" lang="en-US" sz="1800" spc="-1" strike="noStrike">
                <a:solidFill>
                  <a:srgbClr val="ff0000"/>
                </a:solidFill>
                <a:latin typeface="Arial"/>
              </a:rPr>
              <a:t>: What problem or need existed that gave rise to your innovation? </a:t>
            </a:r>
            <a:endParaRPr b="0" lang="en-US" sz="1800" spc="-1" strike="noStrike">
              <a:solidFill>
                <a:srgbClr val="000000"/>
              </a:solidFill>
              <a:latin typeface="Arial"/>
            </a:endParaRPr>
          </a:p>
        </p:txBody>
      </p:sp>
      <p:pic>
        <p:nvPicPr>
          <p:cNvPr id="172" name="" descr="Go to fullsize image">
            <a:hlinkClick r:id="rId2"/>
          </p:cNvPr>
          <p:cNvPicPr/>
          <p:nvPr/>
        </p:nvPicPr>
        <p:blipFill>
          <a:blip r:embed="rId3"/>
          <a:stretch/>
        </p:blipFill>
        <p:spPr>
          <a:xfrm>
            <a:off x="2590920" y="1676520"/>
            <a:ext cx="1752480" cy="1609560"/>
          </a:xfrm>
          <a:prstGeom prst="rect">
            <a:avLst/>
          </a:prstGeom>
          <a:ln w="0">
            <a:noFill/>
          </a:ln>
        </p:spPr>
      </p:pic>
      <p:pic>
        <p:nvPicPr>
          <p:cNvPr id="173" name="" descr="Go to fullsize image">
            <a:hlinkClick r:id="rId4"/>
          </p:cNvPr>
          <p:cNvPicPr/>
          <p:nvPr/>
        </p:nvPicPr>
        <p:blipFill>
          <a:blip r:embed="rId5"/>
          <a:stretch/>
        </p:blipFill>
        <p:spPr>
          <a:xfrm>
            <a:off x="5715000" y="1676520"/>
            <a:ext cx="2425680" cy="1614240"/>
          </a:xfrm>
          <a:prstGeom prst="rect">
            <a:avLst/>
          </a:prstGeom>
          <a:ln w="0">
            <a:noFill/>
          </a:ln>
        </p:spPr>
      </p:pic>
      <p:sp>
        <p:nvSpPr>
          <p:cNvPr id="174" name=""/>
          <p:cNvSpPr/>
          <p:nvPr/>
        </p:nvSpPr>
        <p:spPr>
          <a:xfrm>
            <a:off x="3108240" y="3770280"/>
            <a:ext cx="4816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5" name=""/>
          <p:cNvSpPr/>
          <p:nvPr/>
        </p:nvSpPr>
        <p:spPr>
          <a:xfrm>
            <a:off x="2930760" y="3821040"/>
            <a:ext cx="6204960" cy="249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mio began in 1997 with a singular philosophy: to make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re engaging for students, with technology that makes it easier f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to do what they do best; teach (mimio, 2010). The creator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io realized that students were so focused on note-taking and w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important instruction. They saw a need for an interactiv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ing technology tool to provide more authentic less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eachers and students.</a:t>
            </a:r>
            <a:r>
              <a:rPr b="1" lang="en-US" sz="1400" spc="-1" strike="noStrike">
                <a:solidFill>
                  <a:srgbClr val="000000"/>
                </a:solidFill>
                <a:latin typeface="Arial"/>
              </a:rPr>
              <a:t> </a:t>
            </a:r>
            <a:r>
              <a:rPr b="0" lang="en-US" sz="1400" spc="-1" strike="noStrike">
                <a:solidFill>
                  <a:srgbClr val="000000"/>
                </a:solidFill>
                <a:latin typeface="Arial"/>
              </a:rPr>
              <a:t>As mimio grew, numerous breakthroug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novations helped educators focus more on teaching and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e more on learning (mimio. 2010). Thanks to the mimio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imio connect the amount of interactive authentic activities and less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endless, and now students stay more actively engaged in lesson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8544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Research:</a:t>
            </a:r>
            <a:r>
              <a:rPr b="0" lang="en-US" sz="1800" spc="-1" strike="noStrike">
                <a:solidFill>
                  <a:srgbClr val="0000ff"/>
                </a:solidFill>
                <a:latin typeface="Arial"/>
              </a:rPr>
              <a:t> What research organization or people developed a solution to this problem or need? What were their findings? Who were the “lead thinkers” for this innovation, and how did they convince a manufacturer to produce it?</a:t>
            </a:r>
            <a:r>
              <a:rPr b="0" lang="en-US" sz="2800" spc="-1" strike="noStrike">
                <a:solidFill>
                  <a:srgbClr val="0000ff"/>
                </a:solidFill>
                <a:latin typeface="Arial"/>
              </a:rPr>
              <a:t> </a:t>
            </a:r>
            <a:br>
              <a:rPr sz="2800"/>
            </a:br>
            <a:endParaRPr b="0" lang="en-US" sz="2800" spc="-1" strike="noStrike">
              <a:solidFill>
                <a:srgbClr val="000000"/>
              </a:solidFill>
              <a:latin typeface="Arial"/>
            </a:endParaRPr>
          </a:p>
        </p:txBody>
      </p:sp>
      <p:sp>
        <p:nvSpPr>
          <p:cNvPr id="177" name="PlaceHolder 2"/>
          <p:cNvSpPr>
            <a:spLocks noGrp="1"/>
          </p:cNvSpPr>
          <p:nvPr>
            <p:ph type="subTitle"/>
          </p:nvPr>
        </p:nvSpPr>
        <p:spPr>
          <a:xfrm>
            <a:off x="455400" y="3886200"/>
            <a:ext cx="8078760" cy="27432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s stated on their website, </a:t>
            </a:r>
            <a:r>
              <a:rPr b="0" lang="en-US" sz="1800" spc="-1" strike="noStrike" u="sng">
                <a:solidFill>
                  <a:srgbClr val="144466"/>
                </a:solidFill>
                <a:uFillTx/>
                <a:latin typeface="Arial Narrow"/>
                <a:hlinkClick r:id="rId2"/>
              </a:rPr>
              <a:t>http://www.mimio.dymo.com</a:t>
            </a:r>
            <a:r>
              <a:rPr b="0" lang="en-US" sz="1800" spc="-1" strike="noStrike" u="sng">
                <a:solidFill>
                  <a:srgbClr val="000000"/>
                </a:solidFill>
                <a:uFillTx/>
                <a:latin typeface="Arial Narrow"/>
              </a:rPr>
              <a:t> (2010),</a:t>
            </a:r>
            <a:r>
              <a:rPr b="0" lang="en-US" sz="1800" spc="-1" strike="noStrike">
                <a:solidFill>
                  <a:srgbClr val="000000"/>
                </a:solidFill>
                <a:latin typeface="Arial"/>
              </a:rPr>
              <a:t> “</a:t>
            </a:r>
            <a:r>
              <a:rPr b="0" lang="en-US" sz="1800" spc="-1" strike="noStrike">
                <a:solidFill>
                  <a:srgbClr val="000000"/>
                </a:solidFill>
                <a:latin typeface="Arial Narrow"/>
              </a:rPr>
              <a:t>Mimio was born by way of some very creative thinkers at MIT” passion. Through their research, innovators found that students were so occupied taking notes, that they were not actively engaged as learners and were missing key concepts they needed to gain from the lesson. The first model of the mimio was called  </a:t>
            </a:r>
            <a:r>
              <a:rPr b="0" lang="en-US" sz="1600" spc="-1" strike="noStrike">
                <a:solidFill>
                  <a:srgbClr val="000000"/>
                </a:solidFill>
                <a:latin typeface="Arial"/>
              </a:rPr>
              <a:t>MimioCapture™ tracking system. However, as included on mimio’s website,</a:t>
            </a:r>
            <a:r>
              <a:rPr b="0" lang="en-US" sz="1800" spc="-1" strike="noStrike">
                <a:solidFill>
                  <a:srgbClr val="000000"/>
                </a:solidFill>
                <a:latin typeface="Arial"/>
              </a:rPr>
              <a:t> </a:t>
            </a:r>
            <a:r>
              <a:rPr b="0" lang="en-US" sz="1800" spc="-1" strike="noStrike">
                <a:solidFill>
                  <a:srgbClr val="000000"/>
                </a:solidFill>
                <a:latin typeface="Arial Narrow"/>
              </a:rPr>
              <a:t> the mimio brand grew quickly, and “numerous breakthrough innovations helped educators focus more on teaching and students concentrate more on learning.” </a:t>
            </a:r>
            <a:r>
              <a:rPr b="0" lang="en-US" sz="1600" spc="-1" strike="noStrike">
                <a:solidFill>
                  <a:srgbClr val="000000"/>
                </a:solidFill>
                <a:latin typeface="Arial"/>
              </a:rPr>
              <a:t>This article included a study that involved 85 teachers and 170 classrooms. The study stated that one controlled group of teachers taught without the interactive mimio whiteboard, while the other group of teachers utilized the mimio in their daily instruction. The study indicated that using interactive whiteboards were associated with a 16% increase in achievement (Marzano, 2009). </a:t>
            </a:r>
            <a:endParaRPr b="0" lang="en-US" sz="1600" spc="-1" strike="noStrike">
              <a:solidFill>
                <a:srgbClr val="000000"/>
              </a:solidFill>
              <a:latin typeface="Arial"/>
            </a:endParaRPr>
          </a:p>
        </p:txBody>
      </p:sp>
      <p:pic>
        <p:nvPicPr>
          <p:cNvPr id="178" name="" descr="Go to fullsize image">
            <a:hlinkClick r:id="rId3"/>
          </p:cNvPr>
          <p:cNvPicPr/>
          <p:nvPr/>
        </p:nvPicPr>
        <p:blipFill>
          <a:blip r:embed="rId4"/>
          <a:stretch/>
        </p:blipFill>
        <p:spPr>
          <a:xfrm>
            <a:off x="3581280" y="20574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evelopment</a:t>
            </a:r>
            <a:r>
              <a:rPr b="0" lang="en-US" sz="1800" spc="-1" strike="noStrike">
                <a:solidFill>
                  <a:srgbClr val="ff0000"/>
                </a:solidFill>
                <a:latin typeface="Arial"/>
              </a:rPr>
              <a:t>: What problems did your innovation encounter in the development process? Who was the intended audience for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180" name="" descr="Go to fullsize image">
            <a:hlinkClick r:id="rId2"/>
          </p:cNvPr>
          <p:cNvPicPr/>
          <p:nvPr/>
        </p:nvPicPr>
        <p:blipFill>
          <a:blip r:embed="rId3"/>
          <a:stretch/>
        </p:blipFill>
        <p:spPr>
          <a:xfrm>
            <a:off x="3429000" y="1295280"/>
            <a:ext cx="1523880" cy="1524240"/>
          </a:xfrm>
          <a:prstGeom prst="rect">
            <a:avLst/>
          </a:prstGeom>
          <a:ln w="0">
            <a:noFill/>
          </a:ln>
        </p:spPr>
      </p:pic>
      <p:sp>
        <p:nvSpPr>
          <p:cNvPr id="181" name=""/>
          <p:cNvSpPr/>
          <p:nvPr/>
        </p:nvSpPr>
        <p:spPr>
          <a:xfrm>
            <a:off x="1523880" y="3581280"/>
            <a:ext cx="5867640" cy="289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with all technology tools, the mimio went through many trial periods with revisions to the original model. One of the significant problems during testing of the unit tended to be the suction cups letting loose occasionally. The newer version, mimioTeach, now has strong magnets to hold it more securely to the board. Some early users/testers also experienced an incompatibility between the Mimio and certain kinds of motion controlled lighting system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tended audience for the mimio were educators and students to help provide engaging interactive learning opportuni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Commercialization</a:t>
            </a:r>
            <a:r>
              <a:rPr b="0" lang="en-US" sz="1800" spc="-1" strike="noStrike">
                <a:solidFill>
                  <a:srgbClr val="0000ff"/>
                </a:solidFill>
                <a:latin typeface="Arial"/>
              </a:rPr>
              <a:t>: Describe the production, manufacturing, packaging, marketing, and distribution of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83" name="PlaceHolder 2"/>
          <p:cNvSpPr>
            <a:spLocks noGrp="1"/>
          </p:cNvSpPr>
          <p:nvPr>
            <p:ph/>
          </p:nvPr>
        </p:nvSpPr>
        <p:spPr>
          <a:xfrm>
            <a:off x="455760" y="1600200"/>
            <a:ext cx="403704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elling point of the mimio is the manufacturing, packaging, and distribution of it. It is very easily portable and small in size. This also makes it less expensive in comparison to a large Smart Boar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is very effective because as an educator I have seen them being utilized everywhere. They have been at educational conferences letting teachers try out their products, while also offering teachers and schools scholarships and amazing deals on the purchasing the system.  </a:t>
            </a:r>
            <a:endParaRPr b="0" lang="en-US" sz="1600" spc="-1" strike="noStrike">
              <a:solidFill>
                <a:srgbClr val="000000"/>
              </a:solidFill>
              <a:latin typeface="Arial"/>
            </a:endParaRPr>
          </a:p>
        </p:txBody>
      </p:sp>
      <p:sp>
        <p:nvSpPr>
          <p:cNvPr id="184" name="PlaceHolder 3"/>
          <p:cNvSpPr>
            <a:spLocks noGrp="1"/>
          </p:cNvSpPr>
          <p:nvPr>
            <p:ph/>
          </p:nvPr>
        </p:nvSpPr>
        <p:spPr>
          <a:xfrm>
            <a:off x="4645080" y="1600200"/>
            <a:ext cx="4037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 descr="Go to fullsize image"/>
          <p:cNvPicPr/>
          <p:nvPr/>
        </p:nvPicPr>
        <p:blipFill>
          <a:blip r:embed="rId2"/>
          <a:stretch/>
        </p:blipFill>
        <p:spPr>
          <a:xfrm>
            <a:off x="5562720" y="2133720"/>
            <a:ext cx="195552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59:09Z</dcterms:created>
  <dc:creator>Lauren Dart</dc:creator>
  <dc:description/>
  <dc:language>en-US</dc:language>
  <cp:lastModifiedBy>Lauren Dart</cp:lastModifiedBy>
  <dcterms:modified xsi:type="dcterms:W3CDTF">2010-10-04T22:29:59Z</dcterms:modified>
  <cp:revision>4</cp:revision>
  <dc:subject/>
  <dc:title>Diffusion and Integration of Technology in Education</dc:title>
</cp:coreProperties>
</file>